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E90-2254-4E92-A9A3-AC0CF100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11D-9B28-4BA8-ACBB-170DA1A5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CD7-7C5D-4487-861F-5F0918A2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B2C-F3A3-453F-AEA8-1E493D6A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3DD-917C-45AF-81E3-AE8B34A8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08B-BC5D-4B50-AF71-A81FD87C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827-17C5-474D-8460-F8A40C6F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8A7-F368-481A-A882-BAE9EC15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396-3B42-4BBB-A005-F38EA3B4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9CC-C2D0-44B3-890A-F56961BA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B88-5C1B-4F0D-A22B-D5BF7EB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BB6-912F-4D66-9C0F-9B927949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20DE-B01C-44FC-8D94-3E8B2312CE37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s e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le televiziunii (inserati sig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ele canal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ipurile de programe difuzate de canalul ales (A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! Nu enum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umele emisiunilo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er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un tip de emisiune (ex: stir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e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oate emisiunile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ri (sportive, meteo, culturale) pe care programul ales le prez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teva informatii gener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tractive despre tipul de emisiune prezentat mai 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lt tip de emisiuni difuzate (ex. seria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umele emisiunil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ep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pl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 pentru fiecare tip de emisiune difuz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p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 formatul de mai 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 imagine la alegere (prezentatori TV, actori ai unui serial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une (emisiunea cea mai interesanta de pe postul respect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eti pe scurt emisiunea care v-a atras atentia inserand o secventa filmata din acea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ce postul tv respectiv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 modu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care postul tv ales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lu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 zi cu z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unsul din perspecti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ţ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i limbii franc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15T15:49:4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